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9A6D-45B3-4B42-AB06-2CABA816D3A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**Analogy: Molecular Si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7B80-3073-4C38-865E-998963ABE9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NA is negatively char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olar mass of each nucleotide is relatively consis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refore same charge-to-mass rat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nly difference between DNA fragments is the different lengths (number of nucleot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135-1FD2-4F31-AE1D-FA538EFCADC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refore the shorter the fragment the faster it will travel because it can navigate through the pores of the gel more easily than a large fragment can. Analogy: Running through a forest – larger group takes longer to get through the trees compared to an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ll = depression at the ends of the gel; Gel = a square or rectangular slab consists of a buffer containing electrolytes and agarose (perhaps polyacrylamide) Loading dye allows for visualization of the DNA solution – Glycerol: sinks DNA to bottom of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ABEF-3180-41F7-A1C5-502D45E896B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Buffer solution containing electroly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lectrolyte solution conveys the current through the g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horter fragments will arrive at the positive end faster than the longer ends – thus separation is achie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mall fragments are visualized viewer is able to see when the fragments arrive at the other end of the g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3275-2117-49E4-A7BC-8DF0634965E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10. Molecular marker goes through same process as the DNA fragments and then is plotted (known sizes) on a graph along with the distance travelled from the wells. Size is determined through the interpolation of the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295D-04D2-4D46-9627-0E03BEFFBC0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wiziq.com/tutorial/22367-Gel-Electrophoresis-Animati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676440" y="1944720"/>
            <a:ext cx="7785000" cy="1517760"/>
          </a:xfrm>
          <a:prstGeom prst="rect">
            <a:avLst/>
          </a:prstGeom>
          <a:ln w="0">
            <a:noFill/>
          </a:ln>
        </p:spPr>
      </p:pic>
      <p:sp>
        <p:nvSpPr>
          <p:cNvPr id="161" name="Subtitle 2"/>
          <p:cNvSpPr/>
          <p:nvPr/>
        </p:nvSpPr>
        <p:spPr>
          <a:xfrm>
            <a:off x="1403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iology Technology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543640" y="6488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y: Rabeea Fatima and Arlanna P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Calibri"/>
              </a:rPr>
              <a:t>Main Purpose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A method used to sort DNA strands/fragments by length. Also used for other molecule types such as protei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Calibri"/>
              </a:rPr>
              <a:t>Materials Used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Buffer solution, Gel, Power supply, Positive and negative electrod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eleczone.gif"/>
          <p:cNvPicPr/>
          <p:nvPr/>
        </p:nvPicPr>
        <p:blipFill>
          <a:blip r:embed="rId2"/>
          <a:stretch/>
        </p:blipFill>
        <p:spPr>
          <a:xfrm>
            <a:off x="2676600" y="4054320"/>
            <a:ext cx="332748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NA is negatively charged (phosphate groups: net charge of -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lar mass of each nucleotide is relatively consistent: Same charge-to-mass rati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ifferences? DNA fragments have different lengths (number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nucleotid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3" descr="dna_strand.jpg"/>
          <p:cNvPicPr/>
          <p:nvPr/>
        </p:nvPicPr>
        <p:blipFill>
          <a:blip r:embed="rId2"/>
          <a:stretch/>
        </p:blipFill>
        <p:spPr>
          <a:xfrm>
            <a:off x="4548240" y="4572000"/>
            <a:ext cx="3919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CA" sz="3200" spc="-1" strike="noStrike">
                <a:solidFill>
                  <a:srgbClr val="ffffff"/>
                </a:solidFill>
                <a:latin typeface="Calibri"/>
              </a:rPr>
              <a:t>Restricition Endonuclease digestion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: different DNA fragment lengt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gments migrate through gel solution at a rate inversely proportional to (log)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Solution of different sized fragments placed in well #1 along with a glycerol containing loading dy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46612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Gel is loaded while submerged in a buffer sol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direct negatively charged current is placed at one well, positive current at opposing we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negatively charged DNA will migrate towards the positively charged electro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lectrical current can be turned off before small fragments reach the end of the g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NA fragments are visible once gel is sta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mmonly used stain: </a:t>
            </a:r>
            <a:r>
              <a:rPr b="0" i="1" lang="en-CA" sz="3200" spc="-1" strike="noStrike">
                <a:solidFill>
                  <a:srgbClr val="ffffff"/>
                </a:solidFill>
                <a:latin typeface="Calibri"/>
              </a:rPr>
              <a:t>Ethidium Bromi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Flat molecule that fluoresces under UV ligh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When inserted among nucleotides, bands of DNA are visualiz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lecular marker (fragments of known size) is used to determine the sizes of the new DNA frag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3" descr="G210564-DNA_fragments_in_gel_stained_with_Ethidium_Bromide-SPL.jpg"/>
          <p:cNvPicPr/>
          <p:nvPr/>
        </p:nvPicPr>
        <p:blipFill>
          <a:blip r:embed="rId2"/>
          <a:stretch/>
        </p:blipFill>
        <p:spPr>
          <a:xfrm>
            <a:off x="3924360" y="3500280"/>
            <a:ext cx="2232000" cy="151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o determine/estimate the size of the desired DNA frag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mpare fragment sizes from different 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xcise out desired DNA fragment out of g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iziq.com/tutorial/22367-Gel-Electrophoresis-Ani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2:03:05Z</dcterms:created>
  <dc:creator>Arlanna</dc:creator>
  <dc:description/>
  <dc:language>en-US</dc:language>
  <cp:lastModifiedBy>Arlanna</cp:lastModifiedBy>
  <dcterms:modified xsi:type="dcterms:W3CDTF">2011-04-12T03:50:36Z</dcterms:modified>
  <cp:revision>54</cp:revision>
  <dc:subject/>
  <dc:title>Gel 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681033</vt:lpwstr>
  </property>
</Properties>
</file>